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ED7F-61CC-41BD-A18D-5C5519E477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3CAA-32BE-4904-ABBE-407EADDF40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1327-B8EE-488B-BCCA-22746B53C3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D348-6B07-43FC-ABC8-C6A83F4EB8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C90-AF1D-4F86-90B9-0F962B2E8D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DE29-E682-4A9B-9D40-6BFE9367763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591-2597-4822-B5F2-25A32178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9B7-5B81-4FD8-A8C6-BFF69C18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54C-1241-46C3-8D0C-09862795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C92-ED10-4FD6-9515-4045392A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AD9-2161-4150-AD08-A666CA75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1F4-E9BC-4F16-AB48-50D1F55C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BB2-33F4-4947-9339-DF709806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8FF-21F1-417A-86AC-B838090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8F7-E59D-456F-B90D-FCDFF46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026-E837-4E60-8AF9-BCCDC8BA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188-5FE6-405E-BE56-4193A96F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246-1A37-4A5F-AFC0-070D44B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7E35-E9EE-4193-8AE9-5117AF485C0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image" Target="../media/image1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2" name="3 CuadroTexto"/>
          <p:cNvSpPr/>
          <p:nvPr/>
        </p:nvSpPr>
        <p:spPr>
          <a:xfrm>
            <a:off x="1116000" y="189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La cambiante superficie de la Ti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7 Título"/>
          <p:cNvSpPr/>
          <p:nvPr/>
        </p:nvSpPr>
        <p:spPr>
          <a:xfrm>
            <a:off x="826920" y="29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IPOS DE 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8" name="9 CuadroTexto"/>
          <p:cNvSpPr/>
          <p:nvPr/>
        </p:nvSpPr>
        <p:spPr>
          <a:xfrm>
            <a:off x="3780000" y="1628640"/>
            <a:ext cx="172692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419640" y="3068640"/>
            <a:ext cx="2447640" cy="1731960"/>
            <a:chOff x="3419640" y="3068640"/>
            <a:chExt cx="2447640" cy="1731960"/>
          </a:xfrm>
        </p:grpSpPr>
        <p:sp>
          <p:nvSpPr>
            <p:cNvPr id="60" name="Rectangle 70"/>
            <p:cNvSpPr/>
            <p:nvPr/>
          </p:nvSpPr>
          <p:spPr>
            <a:xfrm>
              <a:off x="3419640" y="3429000"/>
              <a:ext cx="237456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419640" y="3068640"/>
              <a:ext cx="2447640" cy="1731960"/>
              <a:chOff x="3419640" y="3068640"/>
              <a:chExt cx="2447640" cy="1731960"/>
            </a:xfrm>
          </p:grpSpPr>
          <p:sp>
            <p:nvSpPr>
              <p:cNvPr id="62" name="35 CuadroTexto">
                <a:hlinkClick r:id="rId2" action="ppaction://hlinksldjump"/>
              </p:cNvPr>
              <p:cNvSpPr/>
              <p:nvPr/>
            </p:nvSpPr>
            <p:spPr>
              <a:xfrm>
                <a:off x="3419640" y="3068640"/>
                <a:ext cx="237636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ocas metamórf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72"/>
              <p:cNvSpPr/>
              <p:nvPr/>
            </p:nvSpPr>
            <p:spPr>
              <a:xfrm>
                <a:off x="3419640" y="3429000"/>
                <a:ext cx="2447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Las rocas metamórficas se for-man mediante un proceso de transformación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(metamorfismo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 rocas ya existentes, en el que estas son sometidas a presiones y temperaturas altas en el inte-rior de la corteza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1835280" y="2003400"/>
            <a:ext cx="5616360" cy="1060560"/>
            <a:chOff x="1835280" y="2003400"/>
            <a:chExt cx="5616360" cy="1060560"/>
          </a:xfrm>
        </p:grpSpPr>
        <p:sp>
          <p:nvSpPr>
            <p:cNvPr id="65" name="30 Conector recto"/>
            <p:cNvSpPr/>
            <p:nvPr/>
          </p:nvSpPr>
          <p:spPr>
            <a:xfrm>
              <a:off x="4643280" y="263700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835280" y="2003400"/>
              <a:ext cx="5616360" cy="1060560"/>
              <a:chOff x="1835280" y="2003400"/>
              <a:chExt cx="5616360" cy="1060560"/>
            </a:xfrm>
          </p:grpSpPr>
          <p:sp>
            <p:nvSpPr>
              <p:cNvPr id="67" name="19 Conector recto"/>
              <p:cNvSpPr/>
              <p:nvPr/>
            </p:nvSpPr>
            <p:spPr>
              <a:xfrm>
                <a:off x="4643280" y="2003400"/>
                <a:ext cx="0" cy="3747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34 Conector recto"/>
              <p:cNvSpPr/>
              <p:nvPr/>
            </p:nvSpPr>
            <p:spPr>
              <a:xfrm>
                <a:off x="1835280" y="28526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57 Conector recto"/>
              <p:cNvSpPr/>
              <p:nvPr/>
            </p:nvSpPr>
            <p:spPr>
              <a:xfrm>
                <a:off x="745164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30 Conector recto"/>
              <p:cNvSpPr/>
              <p:nvPr/>
            </p:nvSpPr>
            <p:spPr>
              <a:xfrm>
                <a:off x="464328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65"/>
              <p:cNvSpPr/>
              <p:nvPr/>
            </p:nvSpPr>
            <p:spPr>
              <a:xfrm flipH="1">
                <a:off x="1835280" y="2867040"/>
                <a:ext cx="2808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67"/>
              <p:cNvSpPr/>
              <p:nvPr/>
            </p:nvSpPr>
            <p:spPr>
              <a:xfrm flipH="1">
                <a:off x="4642920" y="2867040"/>
                <a:ext cx="280836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8 CuadroTexto"/>
              <p:cNvSpPr/>
              <p:nvPr/>
            </p:nvSpPr>
            <p:spPr>
              <a:xfrm>
                <a:off x="3962520" y="23637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 clasifican 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6227640" y="3068640"/>
            <a:ext cx="2448000" cy="2009880"/>
            <a:chOff x="6227640" y="3068640"/>
            <a:chExt cx="2448000" cy="2009880"/>
          </a:xfrm>
        </p:grpSpPr>
        <p:sp>
          <p:nvSpPr>
            <p:cNvPr id="75" name="55 CuadroTexto">
              <a:hlinkClick r:id="rId3" action="ppaction://hlinksldjump"/>
            </p:cNvPr>
            <p:cNvSpPr/>
            <p:nvPr/>
          </p:nvSpPr>
          <p:spPr>
            <a:xfrm>
              <a:off x="6227640" y="30686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1"/>
            <p:cNvSpPr/>
            <p:nvPr/>
          </p:nvSpPr>
          <p:spPr>
            <a:xfrm>
              <a:off x="6227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9"/>
            <p:cNvSpPr/>
            <p:nvPr/>
          </p:nvSpPr>
          <p:spPr>
            <a:xfrm>
              <a:off x="6227640" y="3429000"/>
              <a:ext cx="244800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sedimentari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por la acción de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o-cesos geológicos exógeno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los que intervienen la energía solar y la gravedad. Por esa razón, también se llam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exóge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990720" y="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Logo anaya"/>
          <p:cNvPicPr/>
          <p:nvPr/>
        </p:nvPicPr>
        <p:blipFill>
          <a:blip r:embed="rId4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3520" y="3083040"/>
            <a:ext cx="2447640" cy="1712880"/>
            <a:chOff x="533520" y="3083040"/>
            <a:chExt cx="2447640" cy="1712880"/>
          </a:xfrm>
        </p:grpSpPr>
        <p:sp>
          <p:nvSpPr>
            <p:cNvPr id="92" name="35 CuadroTexto">
              <a:hlinkClick r:id="rId5" action="ppaction://hlinksldjump"/>
            </p:cNvPr>
            <p:cNvSpPr/>
            <p:nvPr/>
          </p:nvSpPr>
          <p:spPr>
            <a:xfrm>
              <a:off x="539640" y="30830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cas magmát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9"/>
            <p:cNvSpPr/>
            <p:nvPr/>
          </p:nvSpPr>
          <p:spPr>
            <a:xfrm>
              <a:off x="533520" y="3429000"/>
              <a:ext cx="24476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rocas magmáticas se for-man a partir de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agm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ascienden hacia la superficie a través de la corteza y se enfrí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3"/>
            <p:cNvSpPr/>
            <p:nvPr/>
          </p:nvSpPr>
          <p:spPr>
            <a:xfrm>
              <a:off x="539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7200" y="57150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20e"/>
                </a:solidFill>
                <a:latin typeface="Arial"/>
              </a:rPr>
              <a:t>Pulsa en cada tipo de roca para saber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CuadroTexto"/>
          <p:cNvSpPr/>
          <p:nvPr/>
        </p:nvSpPr>
        <p:spPr>
          <a:xfrm>
            <a:off x="3851280" y="836640"/>
            <a:ext cx="1727280" cy="5806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 mag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39640" y="1413000"/>
            <a:ext cx="4761360" cy="1060200"/>
            <a:chOff x="2339640" y="1413000"/>
            <a:chExt cx="4761360" cy="1060200"/>
          </a:xfrm>
        </p:grpSpPr>
        <p:sp>
          <p:nvSpPr>
            <p:cNvPr id="98" name="19 Conector recto"/>
            <p:cNvSpPr/>
            <p:nvPr/>
          </p:nvSpPr>
          <p:spPr>
            <a:xfrm>
              <a:off x="4724280" y="1413000"/>
              <a:ext cx="0" cy="3744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8 CuadroTexto"/>
            <p:cNvSpPr/>
            <p:nvPr/>
          </p:nvSpPr>
          <p:spPr>
            <a:xfrm>
              <a:off x="4199040" y="175248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eden 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30 Conector recto"/>
            <p:cNvSpPr/>
            <p:nvPr/>
          </p:nvSpPr>
          <p:spPr>
            <a:xfrm>
              <a:off x="4724280" y="2060640"/>
              <a:ext cx="0" cy="21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34 Conector recto"/>
            <p:cNvSpPr/>
            <p:nvPr/>
          </p:nvSpPr>
          <p:spPr>
            <a:xfrm>
              <a:off x="2340000" y="2276640"/>
              <a:ext cx="0" cy="196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57 Conector recto"/>
            <p:cNvSpPr/>
            <p:nvPr/>
          </p:nvSpPr>
          <p:spPr>
            <a:xfrm>
              <a:off x="7093080" y="2276640"/>
              <a:ext cx="0" cy="196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 flipH="1">
              <a:off x="2339640" y="2276640"/>
              <a:ext cx="2376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5"/>
            <p:cNvSpPr/>
            <p:nvPr/>
          </p:nvSpPr>
          <p:spPr>
            <a:xfrm flipH="1">
              <a:off x="4724280" y="2276640"/>
              <a:ext cx="23767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00000" y="2492280"/>
            <a:ext cx="3024360" cy="3745080"/>
            <a:chOff x="900000" y="2492280"/>
            <a:chExt cx="3024360" cy="3745080"/>
          </a:xfrm>
        </p:grpSpPr>
        <p:pic>
          <p:nvPicPr>
            <p:cNvPr id="106" name="Picture 23" descr=""/>
            <p:cNvPicPr/>
            <p:nvPr/>
          </p:nvPicPr>
          <p:blipFill>
            <a:blip r:embed="rId1"/>
            <a:stretch/>
          </p:blipFill>
          <p:spPr>
            <a:xfrm>
              <a:off x="900000" y="4365720"/>
              <a:ext cx="2952720" cy="16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6"/>
            <p:cNvSpPr/>
            <p:nvPr/>
          </p:nvSpPr>
          <p:spPr>
            <a:xfrm>
              <a:off x="900000" y="2852640"/>
              <a:ext cx="3024360" cy="33847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35 CuadroTexto"/>
            <p:cNvSpPr/>
            <p:nvPr/>
          </p:nvSpPr>
          <p:spPr>
            <a:xfrm>
              <a:off x="900000" y="2492280"/>
              <a:ext cx="302436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utón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900000" y="2852640"/>
              <a:ext cx="302436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cuando el magma se enfría lentamente y se solidifica en el interior de la corteza. El enfriamiento lento hace que los minerales puedan formar cristales grandes y redondea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n rocas plutónicas el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ranito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ienita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o la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eridotit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257800" y="2492280"/>
            <a:ext cx="3656880" cy="3745080"/>
            <a:chOff x="5257800" y="2492280"/>
            <a:chExt cx="3656880" cy="3745080"/>
          </a:xfrm>
        </p:grpSpPr>
        <p:pic>
          <p:nvPicPr>
            <p:cNvPr id="111" name="Picture 24" descr=""/>
            <p:cNvPicPr/>
            <p:nvPr/>
          </p:nvPicPr>
          <p:blipFill>
            <a:blip r:embed="rId2"/>
            <a:stretch/>
          </p:blipFill>
          <p:spPr>
            <a:xfrm>
              <a:off x="6022800" y="4365720"/>
              <a:ext cx="2381760" cy="18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5257800" y="2492280"/>
              <a:ext cx="3656880" cy="3745080"/>
              <a:chOff x="5257800" y="2492280"/>
              <a:chExt cx="3656880" cy="3745080"/>
            </a:xfrm>
          </p:grpSpPr>
          <p:sp>
            <p:nvSpPr>
              <p:cNvPr id="113" name="Rectangle 19"/>
              <p:cNvSpPr/>
              <p:nvPr/>
            </p:nvSpPr>
            <p:spPr>
              <a:xfrm>
                <a:off x="5257800" y="2852640"/>
                <a:ext cx="3570480" cy="3384720"/>
              </a:xfrm>
              <a:prstGeom prst="rect">
                <a:avLst/>
              </a:prstGeom>
              <a:noFill/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55 CuadroTexto"/>
              <p:cNvSpPr/>
              <p:nvPr/>
            </p:nvSpPr>
            <p:spPr>
              <a:xfrm>
                <a:off x="5257800" y="2492280"/>
                <a:ext cx="357228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Volcán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21"/>
              <p:cNvSpPr/>
              <p:nvPr/>
            </p:nvSpPr>
            <p:spPr>
              <a:xfrm>
                <a:off x="5257800" y="2852640"/>
                <a:ext cx="3656880" cy="164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 forman cuando el magma sale por los volcanes como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a,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 se enfría y se solidifica rápidamente en el exterior. El enfriamiento rápido forma cristales microscópicos, como en el caso del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asalto.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i el enfriamiento es súbito, no hay cristalización; se forman masas sólidas llamadas vidrios volcánicos, como la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umita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 la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bsidiana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6" name="Picture 11" descr="Logo anaya"/>
          <p:cNvPicPr/>
          <p:nvPr/>
        </p:nvPicPr>
        <p:blipFill>
          <a:blip r:embed="rId3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25" name="9 CuadroTexto"/>
          <p:cNvSpPr/>
          <p:nvPr/>
        </p:nvSpPr>
        <p:spPr>
          <a:xfrm>
            <a:off x="3780000" y="1628640"/>
            <a:ext cx="172692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419640" y="3068640"/>
            <a:ext cx="2447640" cy="1731960"/>
            <a:chOff x="3419640" y="3068640"/>
            <a:chExt cx="2447640" cy="1731960"/>
          </a:xfrm>
        </p:grpSpPr>
        <p:sp>
          <p:nvSpPr>
            <p:cNvPr id="127" name="Rectangle 70"/>
            <p:cNvSpPr/>
            <p:nvPr/>
          </p:nvSpPr>
          <p:spPr>
            <a:xfrm>
              <a:off x="3419640" y="3429000"/>
              <a:ext cx="237456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419640" y="3068640"/>
              <a:ext cx="2447640" cy="1731960"/>
              <a:chOff x="3419640" y="3068640"/>
              <a:chExt cx="2447640" cy="1731960"/>
            </a:xfrm>
          </p:grpSpPr>
          <p:sp>
            <p:nvSpPr>
              <p:cNvPr id="129" name="35 CuadroTexto"/>
              <p:cNvSpPr/>
              <p:nvPr/>
            </p:nvSpPr>
            <p:spPr>
              <a:xfrm>
                <a:off x="3419640" y="3068640"/>
                <a:ext cx="237636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ocas metamórf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72"/>
              <p:cNvSpPr/>
              <p:nvPr/>
            </p:nvSpPr>
            <p:spPr>
              <a:xfrm>
                <a:off x="3419640" y="3429000"/>
                <a:ext cx="2447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Las rocas metamórficas se for-man mediante un proceso de transformación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(metamorfismo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 rocas ya existentes, en el que estas son sometidas a presiones y temperaturas altas en el inte-rior de la corteza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835280" y="2003400"/>
            <a:ext cx="5616360" cy="1060560"/>
            <a:chOff x="1835280" y="2003400"/>
            <a:chExt cx="5616360" cy="1060560"/>
          </a:xfrm>
        </p:grpSpPr>
        <p:sp>
          <p:nvSpPr>
            <p:cNvPr id="132" name="30 Conector recto"/>
            <p:cNvSpPr/>
            <p:nvPr/>
          </p:nvSpPr>
          <p:spPr>
            <a:xfrm>
              <a:off x="4643280" y="263700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835280" y="2003400"/>
              <a:ext cx="5616360" cy="1060560"/>
              <a:chOff x="1835280" y="2003400"/>
              <a:chExt cx="5616360" cy="1060560"/>
            </a:xfrm>
          </p:grpSpPr>
          <p:sp>
            <p:nvSpPr>
              <p:cNvPr id="134" name="19 Conector recto"/>
              <p:cNvSpPr/>
              <p:nvPr/>
            </p:nvSpPr>
            <p:spPr>
              <a:xfrm>
                <a:off x="4643280" y="2003400"/>
                <a:ext cx="0" cy="3747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34 Conector recto"/>
              <p:cNvSpPr/>
              <p:nvPr/>
            </p:nvSpPr>
            <p:spPr>
              <a:xfrm>
                <a:off x="1835280" y="28526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57 Conector recto"/>
              <p:cNvSpPr/>
              <p:nvPr/>
            </p:nvSpPr>
            <p:spPr>
              <a:xfrm>
                <a:off x="745164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30 Conector recto"/>
              <p:cNvSpPr/>
              <p:nvPr/>
            </p:nvSpPr>
            <p:spPr>
              <a:xfrm>
                <a:off x="464328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5"/>
              <p:cNvSpPr/>
              <p:nvPr/>
            </p:nvSpPr>
            <p:spPr>
              <a:xfrm flipH="1">
                <a:off x="1835280" y="2867040"/>
                <a:ext cx="2808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7"/>
              <p:cNvSpPr/>
              <p:nvPr/>
            </p:nvSpPr>
            <p:spPr>
              <a:xfrm flipH="1">
                <a:off x="4642920" y="2867040"/>
                <a:ext cx="280836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8 CuadroTexto"/>
              <p:cNvSpPr/>
              <p:nvPr/>
            </p:nvSpPr>
            <p:spPr>
              <a:xfrm>
                <a:off x="3962520" y="23637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 clasifican 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6227640" y="3068640"/>
            <a:ext cx="2448000" cy="2009880"/>
            <a:chOff x="6227640" y="3068640"/>
            <a:chExt cx="2448000" cy="2009880"/>
          </a:xfrm>
        </p:grpSpPr>
        <p:sp>
          <p:nvSpPr>
            <p:cNvPr id="142" name="55 CuadroTexto"/>
            <p:cNvSpPr/>
            <p:nvPr/>
          </p:nvSpPr>
          <p:spPr>
            <a:xfrm>
              <a:off x="6227640" y="30686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1"/>
            <p:cNvSpPr/>
            <p:nvPr/>
          </p:nvSpPr>
          <p:spPr>
            <a:xfrm>
              <a:off x="6227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9"/>
            <p:cNvSpPr/>
            <p:nvPr/>
          </p:nvSpPr>
          <p:spPr>
            <a:xfrm>
              <a:off x="6227640" y="3429000"/>
              <a:ext cx="244800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sedimentari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por la acción de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o-cesos geológicos exógeno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los que intervienen la energía solar y la gravedad. Por esa razón, también se llam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exóge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Logo anaya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3083040"/>
            <a:ext cx="2447640" cy="1712880"/>
            <a:chOff x="533520" y="3083040"/>
            <a:chExt cx="2447640" cy="1712880"/>
          </a:xfrm>
        </p:grpSpPr>
        <p:sp>
          <p:nvSpPr>
            <p:cNvPr id="159" name="35 CuadroTexto"/>
            <p:cNvSpPr/>
            <p:nvPr/>
          </p:nvSpPr>
          <p:spPr>
            <a:xfrm>
              <a:off x="539640" y="30830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magmát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9"/>
            <p:cNvSpPr/>
            <p:nvPr/>
          </p:nvSpPr>
          <p:spPr>
            <a:xfrm>
              <a:off x="533520" y="3429000"/>
              <a:ext cx="24476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rocas magmáticas se for-man a partir de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agm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ascienden hacia la superficie a través de la corteza y se enfrí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3"/>
            <p:cNvSpPr/>
            <p:nvPr/>
          </p:nvSpPr>
          <p:spPr>
            <a:xfrm>
              <a:off x="539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57200" y="57150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20e"/>
                </a:solidFill>
                <a:latin typeface="Arial"/>
              </a:rPr>
              <a:t>Pulsa en cada tipo de roca para saber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9 CuadroTexto"/>
          <p:cNvSpPr/>
          <p:nvPr/>
        </p:nvSpPr>
        <p:spPr>
          <a:xfrm>
            <a:off x="3851280" y="620640"/>
            <a:ext cx="1727280" cy="5806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as metamórf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39640" y="1197000"/>
            <a:ext cx="4753440" cy="844560"/>
            <a:chOff x="2339640" y="1197000"/>
            <a:chExt cx="4753440" cy="844560"/>
          </a:xfrm>
        </p:grpSpPr>
        <p:sp>
          <p:nvSpPr>
            <p:cNvPr id="165" name="19 Conector recto"/>
            <p:cNvSpPr/>
            <p:nvPr/>
          </p:nvSpPr>
          <p:spPr>
            <a:xfrm>
              <a:off x="4716360" y="1197000"/>
              <a:ext cx="0" cy="21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8 CuadroTexto"/>
            <p:cNvSpPr/>
            <p:nvPr/>
          </p:nvSpPr>
          <p:spPr>
            <a:xfrm>
              <a:off x="4114800" y="13716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eden 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30 Conector recto"/>
            <p:cNvSpPr/>
            <p:nvPr/>
          </p:nvSpPr>
          <p:spPr>
            <a:xfrm>
              <a:off x="4716360" y="162864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34 Conector recto"/>
            <p:cNvSpPr/>
            <p:nvPr/>
          </p:nvSpPr>
          <p:spPr>
            <a:xfrm>
              <a:off x="2340000" y="184464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7 Conector recto"/>
            <p:cNvSpPr/>
            <p:nvPr/>
          </p:nvSpPr>
          <p:spPr>
            <a:xfrm>
              <a:off x="7093080" y="184464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 flipH="1">
              <a:off x="2339640" y="1844640"/>
              <a:ext cx="2376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 flipH="1">
              <a:off x="4716360" y="1844640"/>
              <a:ext cx="23767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257800" y="2060640"/>
            <a:ext cx="3490560" cy="4127400"/>
            <a:chOff x="5257800" y="2060640"/>
            <a:chExt cx="3490560" cy="4127400"/>
          </a:xfrm>
        </p:grpSpPr>
        <p:pic>
          <p:nvPicPr>
            <p:cNvPr id="173" name="Picture 21" descr=""/>
            <p:cNvPicPr/>
            <p:nvPr/>
          </p:nvPicPr>
          <p:blipFill>
            <a:blip r:embed="rId1"/>
            <a:stretch/>
          </p:blipFill>
          <p:spPr>
            <a:xfrm>
              <a:off x="5409720" y="4869000"/>
              <a:ext cx="30340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Rectangle 16"/>
            <p:cNvSpPr/>
            <p:nvPr/>
          </p:nvSpPr>
          <p:spPr>
            <a:xfrm>
              <a:off x="5257800" y="2637000"/>
              <a:ext cx="3413880" cy="35287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55 CuadroTexto"/>
            <p:cNvSpPr/>
            <p:nvPr/>
          </p:nvSpPr>
          <p:spPr>
            <a:xfrm>
              <a:off x="5257800" y="2060640"/>
              <a:ext cx="341388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ocas </a:t>
              </a:r>
              <a:br>
                <a:rPr sz="1600"/>
              </a:b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 metamorfismo dinamotérm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5257800" y="2708280"/>
              <a:ext cx="349056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roceden de rocas que, además de sufrir un aumento de temperatura, son aplastadas por las fuerzas del interior de la cortez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estas rocas, los minerales sufren recrista-lización y, además, debido a la intensa presión, se disponen en láminas aplastadas con aspecto de hojaldre o en bandas (estas disposiciones se denomin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foliación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 este modo, se forman 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izarra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squisto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y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neise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proceden del metamorfismo dinamotérmico más o menos intenso de las arcil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900000" y="2060640"/>
            <a:ext cx="3095640" cy="4105080"/>
            <a:chOff x="900000" y="2060640"/>
            <a:chExt cx="3095640" cy="4105080"/>
          </a:xfrm>
        </p:grpSpPr>
        <p:sp>
          <p:nvSpPr>
            <p:cNvPr id="178" name="Rectangle 14"/>
            <p:cNvSpPr/>
            <p:nvPr/>
          </p:nvSpPr>
          <p:spPr>
            <a:xfrm>
              <a:off x="900000" y="2637000"/>
              <a:ext cx="3024360" cy="35287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35 CuadroTexto"/>
            <p:cNvSpPr/>
            <p:nvPr/>
          </p:nvSpPr>
          <p:spPr>
            <a:xfrm>
              <a:off x="900000" y="2060640"/>
              <a:ext cx="302436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ocas </a:t>
              </a:r>
              <a:br>
                <a:rPr sz="1600"/>
              </a:b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 metamorfismo térm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5"/>
            <p:cNvSpPr/>
            <p:nvPr/>
          </p:nvSpPr>
          <p:spPr>
            <a:xfrm>
              <a:off x="900000" y="2637000"/>
              <a:ext cx="3095640" cy="21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roceden de rocas que se ponen en con-tacto con masas de magma que ascien-den a través de el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l intenso calor hace que los minerales de estas rocas sufran una r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crist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aumentan mucho de tamaño y varían ligeramente su composición química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í se forman el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ármol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procede de las calizas, o 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uarcita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proceden de arenisc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0" descr=""/>
            <p:cNvPicPr/>
            <p:nvPr/>
          </p:nvPicPr>
          <p:blipFill>
            <a:blip r:embed="rId2"/>
            <a:stretch/>
          </p:blipFill>
          <p:spPr>
            <a:xfrm>
              <a:off x="971640" y="4508640"/>
              <a:ext cx="2879640" cy="14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1" descr="Logo anaya"/>
          <p:cNvPicPr/>
          <p:nvPr/>
        </p:nvPicPr>
        <p:blipFill>
          <a:blip r:embed="rId3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91" name="9 CuadroTexto"/>
          <p:cNvSpPr/>
          <p:nvPr/>
        </p:nvSpPr>
        <p:spPr>
          <a:xfrm>
            <a:off x="3780000" y="1628640"/>
            <a:ext cx="172692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419640" y="3068640"/>
            <a:ext cx="2447640" cy="1731960"/>
            <a:chOff x="3419640" y="3068640"/>
            <a:chExt cx="2447640" cy="1731960"/>
          </a:xfrm>
        </p:grpSpPr>
        <p:sp>
          <p:nvSpPr>
            <p:cNvPr id="193" name="Rectangle 70"/>
            <p:cNvSpPr/>
            <p:nvPr/>
          </p:nvSpPr>
          <p:spPr>
            <a:xfrm>
              <a:off x="3419640" y="3429000"/>
              <a:ext cx="237456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419640" y="3068640"/>
              <a:ext cx="2447640" cy="1731960"/>
              <a:chOff x="3419640" y="3068640"/>
              <a:chExt cx="2447640" cy="1731960"/>
            </a:xfrm>
          </p:grpSpPr>
          <p:sp>
            <p:nvSpPr>
              <p:cNvPr id="195" name="35 CuadroTexto"/>
              <p:cNvSpPr/>
              <p:nvPr/>
            </p:nvSpPr>
            <p:spPr>
              <a:xfrm>
                <a:off x="3419640" y="3068640"/>
                <a:ext cx="237636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ocas metamórf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72"/>
              <p:cNvSpPr/>
              <p:nvPr/>
            </p:nvSpPr>
            <p:spPr>
              <a:xfrm>
                <a:off x="3419640" y="3429000"/>
                <a:ext cx="2447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Las rocas metamórficas se for-man mediante un proceso de transformación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(metamorfismo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 rocas ya existentes, en el que estas son sometidas a presiones y temperaturas altas en el inte-rior de la corteza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1835280" y="2003400"/>
            <a:ext cx="5616360" cy="1060560"/>
            <a:chOff x="1835280" y="2003400"/>
            <a:chExt cx="5616360" cy="1060560"/>
          </a:xfrm>
        </p:grpSpPr>
        <p:sp>
          <p:nvSpPr>
            <p:cNvPr id="198" name="30 Conector recto"/>
            <p:cNvSpPr/>
            <p:nvPr/>
          </p:nvSpPr>
          <p:spPr>
            <a:xfrm>
              <a:off x="4643280" y="263700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835280" y="2003400"/>
              <a:ext cx="5616360" cy="1060560"/>
              <a:chOff x="1835280" y="2003400"/>
              <a:chExt cx="5616360" cy="1060560"/>
            </a:xfrm>
          </p:grpSpPr>
          <p:sp>
            <p:nvSpPr>
              <p:cNvPr id="200" name="19 Conector recto"/>
              <p:cNvSpPr/>
              <p:nvPr/>
            </p:nvSpPr>
            <p:spPr>
              <a:xfrm>
                <a:off x="4643280" y="2003400"/>
                <a:ext cx="0" cy="3747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34 Conector recto"/>
              <p:cNvSpPr/>
              <p:nvPr/>
            </p:nvSpPr>
            <p:spPr>
              <a:xfrm>
                <a:off x="1835280" y="28526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57 Conector recto"/>
              <p:cNvSpPr/>
              <p:nvPr/>
            </p:nvSpPr>
            <p:spPr>
              <a:xfrm>
                <a:off x="745164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30 Conector recto"/>
              <p:cNvSpPr/>
              <p:nvPr/>
            </p:nvSpPr>
            <p:spPr>
              <a:xfrm>
                <a:off x="464328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65"/>
              <p:cNvSpPr/>
              <p:nvPr/>
            </p:nvSpPr>
            <p:spPr>
              <a:xfrm flipH="1">
                <a:off x="1835280" y="2867040"/>
                <a:ext cx="2808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67"/>
              <p:cNvSpPr/>
              <p:nvPr/>
            </p:nvSpPr>
            <p:spPr>
              <a:xfrm flipH="1">
                <a:off x="4642920" y="2867040"/>
                <a:ext cx="280836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8 CuadroTexto"/>
              <p:cNvSpPr/>
              <p:nvPr/>
            </p:nvSpPr>
            <p:spPr>
              <a:xfrm>
                <a:off x="3962520" y="23637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 clasifican 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6227640" y="3068640"/>
            <a:ext cx="2448000" cy="2009880"/>
            <a:chOff x="6227640" y="3068640"/>
            <a:chExt cx="2448000" cy="2009880"/>
          </a:xfrm>
        </p:grpSpPr>
        <p:sp>
          <p:nvSpPr>
            <p:cNvPr id="208" name="55 CuadroTexto"/>
            <p:cNvSpPr/>
            <p:nvPr/>
          </p:nvSpPr>
          <p:spPr>
            <a:xfrm>
              <a:off x="6227640" y="30686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6227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9"/>
            <p:cNvSpPr/>
            <p:nvPr/>
          </p:nvSpPr>
          <p:spPr>
            <a:xfrm>
              <a:off x="6227640" y="3429000"/>
              <a:ext cx="244800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sedimentari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por la acción de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o-cesos geológicos exógeno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los que intervienen la energía solar y la gravedad. Por esa razón, también se llam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exóge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Logo anaya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3520" y="3083040"/>
            <a:ext cx="2447640" cy="1712880"/>
            <a:chOff x="533520" y="3083040"/>
            <a:chExt cx="2447640" cy="1712880"/>
          </a:xfrm>
        </p:grpSpPr>
        <p:sp>
          <p:nvSpPr>
            <p:cNvPr id="225" name="35 CuadroTexto"/>
            <p:cNvSpPr/>
            <p:nvPr/>
          </p:nvSpPr>
          <p:spPr>
            <a:xfrm>
              <a:off x="539640" y="30830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magmát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69"/>
            <p:cNvSpPr/>
            <p:nvPr/>
          </p:nvSpPr>
          <p:spPr>
            <a:xfrm>
              <a:off x="533520" y="3429000"/>
              <a:ext cx="24476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rocas magmáticas se for-man a partir de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agm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ascienden hacia la superficie a través de la corteza y se enfrí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3"/>
            <p:cNvSpPr/>
            <p:nvPr/>
          </p:nvSpPr>
          <p:spPr>
            <a:xfrm>
              <a:off x="539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7200" y="57150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20e"/>
                </a:solidFill>
                <a:latin typeface="Arial"/>
              </a:rPr>
              <a:t>Pulsa en cada tipo de roca para saber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5 CuadroTexto"/>
          <p:cNvSpPr/>
          <p:nvPr/>
        </p:nvSpPr>
        <p:spPr>
          <a:xfrm>
            <a:off x="1908000" y="1920960"/>
            <a:ext cx="172908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rí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2665440"/>
            <a:ext cx="1657440" cy="3517920"/>
            <a:chOff x="3657600" y="2665440"/>
            <a:chExt cx="1657440" cy="3517920"/>
          </a:xfrm>
        </p:grpSpPr>
        <p:grpSp>
          <p:nvGrpSpPr>
            <p:cNvPr id="231" name=""/>
            <p:cNvGrpSpPr/>
            <p:nvPr/>
          </p:nvGrpSpPr>
          <p:grpSpPr>
            <a:xfrm>
              <a:off x="3657600" y="2665440"/>
              <a:ext cx="1657440" cy="3517920"/>
              <a:chOff x="3657600" y="2665440"/>
              <a:chExt cx="1657440" cy="3517920"/>
            </a:xfrm>
          </p:grpSpPr>
          <p:pic>
            <p:nvPicPr>
              <p:cNvPr id="23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657600" y="4508640"/>
                <a:ext cx="1657440" cy="167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49 CuadroTexto"/>
              <p:cNvSpPr/>
              <p:nvPr/>
            </p:nvSpPr>
            <p:spPr>
              <a:xfrm>
                <a:off x="3657600" y="2665440"/>
                <a:ext cx="165744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cill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84 CuadroTexto"/>
              <p:cNvSpPr/>
              <p:nvPr/>
            </p:nvSpPr>
            <p:spPr>
              <a:xfrm>
                <a:off x="3657600" y="3068640"/>
                <a:ext cx="165744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us clastos (llamados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lodos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 limos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tienen un diámetro inferi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 0,06 mm (son microscópicos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77 Rectángulo"/>
            <p:cNvSpPr/>
            <p:nvPr/>
          </p:nvSpPr>
          <p:spPr>
            <a:xfrm>
              <a:off x="3657600" y="2665440"/>
              <a:ext cx="1657440" cy="350676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27640" y="2281320"/>
            <a:ext cx="1697040" cy="430200"/>
            <a:chOff x="6227640" y="2281320"/>
            <a:chExt cx="1697040" cy="430200"/>
          </a:xfrm>
        </p:grpSpPr>
        <p:sp>
          <p:nvSpPr>
            <p:cNvPr id="237" name="75 Conector recto"/>
            <p:cNvSpPr/>
            <p:nvPr/>
          </p:nvSpPr>
          <p:spPr>
            <a:xfrm>
              <a:off x="7924680" y="251460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70 Conector recto"/>
            <p:cNvSpPr/>
            <p:nvPr/>
          </p:nvSpPr>
          <p:spPr>
            <a:xfrm>
              <a:off x="6227640" y="249696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60 Conector recto"/>
            <p:cNvSpPr/>
            <p:nvPr/>
          </p:nvSpPr>
          <p:spPr>
            <a:xfrm>
              <a:off x="7093080" y="228132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71 Conector recto"/>
            <p:cNvSpPr/>
            <p:nvPr/>
          </p:nvSpPr>
          <p:spPr>
            <a:xfrm flipH="1" flipV="1">
              <a:off x="6227640" y="2496600"/>
              <a:ext cx="1697040" cy="17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292720" y="2665440"/>
            <a:ext cx="1857240" cy="3573360"/>
            <a:chOff x="5292720" y="2665440"/>
            <a:chExt cx="1857240" cy="3573360"/>
          </a:xfrm>
        </p:grpSpPr>
        <p:pic>
          <p:nvPicPr>
            <p:cNvPr id="242" name="Picture 2" descr="http://64.4.56.103/att/GetInline.aspx?messageid=48d17797-b4d0-11df-b6b0-00237de3a2c0&amp;attindex=0&amp;cp=-1&amp;attdepth=0&amp;imgsrc=cid%3a66B51546-DD01-4888-A42F-78E20D7EF88F%40anaya.es&amp;shared=1&amp;hm__login=zetona830&amp;hm__domain=hotmail.com&amp;ip=10.25.154.8&amp;d=d1756&amp;mf=0&amp;hm__ts=Wed%2c%2001%20Sep%202010%2016%3a40%3a58%20GMT&amp;st=zetona830&amp;hm__ha=01_6ca8f227cb0ef9135c91cd44be7127eb9805386984f0ec4f71cf36d2a3dfa699&amp;oneredir=1"/>
            <p:cNvPicPr/>
            <p:nvPr/>
          </p:nvPicPr>
          <p:blipFill>
            <a:blip r:embed="rId2"/>
            <a:stretch/>
          </p:blipFill>
          <p:spPr>
            <a:xfrm>
              <a:off x="5292720" y="4797360"/>
              <a:ext cx="185724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78 Rectángulo"/>
            <p:cNvSpPr/>
            <p:nvPr/>
          </p:nvSpPr>
          <p:spPr>
            <a:xfrm>
              <a:off x="5410080" y="2665440"/>
              <a:ext cx="1656000" cy="350676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51 CuadroTexto"/>
            <p:cNvSpPr/>
            <p:nvPr/>
          </p:nvSpPr>
          <p:spPr>
            <a:xfrm>
              <a:off x="5410080" y="2665440"/>
              <a:ext cx="165600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cas carbonat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80 CuadroTexto"/>
            <p:cNvSpPr/>
            <p:nvPr/>
          </p:nvSpPr>
          <p:spPr>
            <a:xfrm>
              <a:off x="5410080" y="3276720"/>
              <a:ext cx="16574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más abundantes son 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alizas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, que están formadas calcita  y 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lomía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r dolomit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162920" y="2665440"/>
            <a:ext cx="1800000" cy="3506760"/>
            <a:chOff x="7162920" y="2665440"/>
            <a:chExt cx="1800000" cy="3506760"/>
          </a:xfrm>
        </p:grpSpPr>
        <p:pic>
          <p:nvPicPr>
            <p:cNvPr id="247" name="Picture 4" descr="http://64.4.56.103/att/GetInline.aspx?messageid=48d17797-b4d0-11df-b6b0-00237de3a2c0&amp;attindex=3&amp;cp=-1&amp;attdepth=3&amp;imgsrc=cid%3aE2DF24C6-AE60-4D02-9FEB-48A476EAB082%40anaya.es&amp;shared=1&amp;hm__login=zetona830&amp;hm__domain=hotmail.com&amp;ip=10.25.154.8&amp;d=d1756&amp;mf=0&amp;hm__ts=Wed%2c%2001%20Sep%202010%2016%3a40%3a58%20GMT&amp;st=zetona830&amp;hm__ha=01_9f22449939eedba71aea1eefcf32c49e61dc4cc30711138356ae6e1038f2c62a&amp;oneredir=1"/>
            <p:cNvPicPr/>
            <p:nvPr/>
          </p:nvPicPr>
          <p:blipFill>
            <a:blip r:embed="rId3"/>
            <a:stretch/>
          </p:blipFill>
          <p:spPr>
            <a:xfrm>
              <a:off x="7164360" y="4797360"/>
              <a:ext cx="178596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79 Rectángulo"/>
            <p:cNvSpPr/>
            <p:nvPr/>
          </p:nvSpPr>
          <p:spPr>
            <a:xfrm>
              <a:off x="7164360" y="2665440"/>
              <a:ext cx="1655640" cy="350676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52 CuadroTexto"/>
            <p:cNvSpPr/>
            <p:nvPr/>
          </p:nvSpPr>
          <p:spPr>
            <a:xfrm>
              <a:off x="7162920" y="2665440"/>
              <a:ext cx="165564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Rocas salin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o evapori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81 CuadroTexto"/>
            <p:cNvSpPr/>
            <p:nvPr/>
          </p:nvSpPr>
          <p:spPr>
            <a:xfrm>
              <a:off x="7162920" y="3276720"/>
              <a:ext cx="1800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componen de  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isueltas que precipita-ron en las cuencas sedimentarias cuando el agua se evapor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r ejemplo, el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yeso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halita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y la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ilvin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6320" y="2666880"/>
            <a:ext cx="1904400" cy="3505320"/>
            <a:chOff x="76320" y="2666880"/>
            <a:chExt cx="1904400" cy="3505320"/>
          </a:xfrm>
        </p:grpSpPr>
        <p:pic>
          <p:nvPicPr>
            <p:cNvPr id="252" name="Picture 2" descr=""/>
            <p:cNvPicPr/>
            <p:nvPr/>
          </p:nvPicPr>
          <p:blipFill>
            <a:blip r:embed="rId4"/>
            <a:stretch/>
          </p:blipFill>
          <p:spPr>
            <a:xfrm>
              <a:off x="131400" y="4495680"/>
              <a:ext cx="18493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11 Rectángulo"/>
            <p:cNvSpPr/>
            <p:nvPr/>
          </p:nvSpPr>
          <p:spPr>
            <a:xfrm>
              <a:off x="131400" y="2666880"/>
              <a:ext cx="1849320" cy="35053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48 CuadroTexto"/>
            <p:cNvSpPr/>
            <p:nvPr/>
          </p:nvSpPr>
          <p:spPr>
            <a:xfrm>
              <a:off x="131400" y="2666880"/>
              <a:ext cx="18493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glomer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82 CuadroTexto"/>
            <p:cNvSpPr/>
            <p:nvPr/>
          </p:nvSpPr>
          <p:spPr>
            <a:xfrm>
              <a:off x="76320" y="3068640"/>
              <a:ext cx="184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us clastos (llamad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ravas)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ienen un diámetro mayor de 2 m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11" descr="Logo anaya"/>
          <p:cNvPicPr/>
          <p:nvPr/>
        </p:nvPicPr>
        <p:blipFill>
          <a:blip r:embed="rId5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71280" y="2286000"/>
            <a:ext cx="3529440" cy="457200"/>
            <a:chOff x="971280" y="2286000"/>
            <a:chExt cx="3529440" cy="457200"/>
          </a:xfrm>
        </p:grpSpPr>
        <p:sp>
          <p:nvSpPr>
            <p:cNvPr id="262" name="66 Conector recto"/>
            <p:cNvSpPr/>
            <p:nvPr/>
          </p:nvSpPr>
          <p:spPr>
            <a:xfrm>
              <a:off x="4500720" y="249696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63 Conector recto"/>
            <p:cNvSpPr/>
            <p:nvPr/>
          </p:nvSpPr>
          <p:spPr>
            <a:xfrm>
              <a:off x="971640" y="251460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58 Conector recto"/>
            <p:cNvSpPr/>
            <p:nvPr/>
          </p:nvSpPr>
          <p:spPr>
            <a:xfrm flipH="1" flipV="1">
              <a:off x="971280" y="2496600"/>
              <a:ext cx="3524040" cy="17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60 Conector recto"/>
            <p:cNvSpPr/>
            <p:nvPr/>
          </p:nvSpPr>
          <p:spPr>
            <a:xfrm>
              <a:off x="2743200" y="2286000"/>
              <a:ext cx="0" cy="4572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55 CuadroTexto"/>
          <p:cNvSpPr/>
          <p:nvPr/>
        </p:nvSpPr>
        <p:spPr>
          <a:xfrm>
            <a:off x="6227640" y="1920960"/>
            <a:ext cx="172908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detrí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743200" y="457200"/>
            <a:ext cx="4349880" cy="1447920"/>
            <a:chOff x="2743200" y="457200"/>
            <a:chExt cx="4349880" cy="1447920"/>
          </a:xfrm>
        </p:grpSpPr>
        <p:sp>
          <p:nvSpPr>
            <p:cNvPr id="268" name="19 Conector recto"/>
            <p:cNvSpPr/>
            <p:nvPr/>
          </p:nvSpPr>
          <p:spPr>
            <a:xfrm>
              <a:off x="5029200" y="1066680"/>
              <a:ext cx="0" cy="152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9 CuadroTexto"/>
            <p:cNvSpPr/>
            <p:nvPr/>
          </p:nvSpPr>
          <p:spPr>
            <a:xfrm>
              <a:off x="4191120" y="457200"/>
              <a:ext cx="1726920" cy="58068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s 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34 Conector recto"/>
            <p:cNvSpPr/>
            <p:nvPr/>
          </p:nvSpPr>
          <p:spPr>
            <a:xfrm>
              <a:off x="2771640" y="1704960"/>
              <a:ext cx="0" cy="196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57 Conector recto"/>
            <p:cNvSpPr/>
            <p:nvPr/>
          </p:nvSpPr>
          <p:spPr>
            <a:xfrm>
              <a:off x="7093080" y="1689120"/>
              <a:ext cx="0" cy="21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7"/>
            <p:cNvSpPr/>
            <p:nvPr/>
          </p:nvSpPr>
          <p:spPr>
            <a:xfrm flipH="1">
              <a:off x="2743200" y="1676520"/>
              <a:ext cx="43149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8 CuadroTexto"/>
            <p:cNvSpPr/>
            <p:nvPr/>
          </p:nvSpPr>
          <p:spPr>
            <a:xfrm>
              <a:off x="4267080" y="12193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 clasifican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19 Conector recto"/>
            <p:cNvSpPr/>
            <p:nvPr/>
          </p:nvSpPr>
          <p:spPr>
            <a:xfrm>
              <a:off x="5029200" y="1523880"/>
              <a:ext cx="0" cy="152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981080" y="2665440"/>
            <a:ext cx="1658880" cy="3506760"/>
            <a:chOff x="1981080" y="2665440"/>
            <a:chExt cx="1658880" cy="3506760"/>
          </a:xfrm>
        </p:grpSpPr>
        <p:grpSp>
          <p:nvGrpSpPr>
            <p:cNvPr id="276" name=""/>
            <p:cNvGrpSpPr/>
            <p:nvPr/>
          </p:nvGrpSpPr>
          <p:grpSpPr>
            <a:xfrm>
              <a:off x="1981080" y="2666880"/>
              <a:ext cx="1658880" cy="3427560"/>
              <a:chOff x="1981080" y="2666880"/>
              <a:chExt cx="1658880" cy="3427560"/>
            </a:xfrm>
          </p:grpSpPr>
          <p:pic>
            <p:nvPicPr>
              <p:cNvPr id="277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1981080" y="4419720"/>
                <a:ext cx="1655640" cy="167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83 CuadroTexto"/>
              <p:cNvSpPr/>
              <p:nvPr/>
            </p:nvSpPr>
            <p:spPr>
              <a:xfrm>
                <a:off x="1983960" y="3068640"/>
                <a:ext cx="165600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us clastos (llamados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arenas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tienen un diámetro comprendid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ntre 0,06 mm y 2 mm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50 CuadroTexto"/>
              <p:cNvSpPr/>
              <p:nvPr/>
            </p:nvSpPr>
            <p:spPr>
              <a:xfrm>
                <a:off x="2057040" y="2666880"/>
                <a:ext cx="152424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enis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76 Rectángulo"/>
            <p:cNvSpPr/>
            <p:nvPr/>
          </p:nvSpPr>
          <p:spPr>
            <a:xfrm>
              <a:off x="2057040" y="2665440"/>
              <a:ext cx="1528920" cy="350676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285" name="9 CuadroTexto"/>
          <p:cNvSpPr/>
          <p:nvPr/>
        </p:nvSpPr>
        <p:spPr>
          <a:xfrm>
            <a:off x="3780000" y="1628640"/>
            <a:ext cx="1726920" cy="337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O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348000" y="3124080"/>
            <a:ext cx="2447640" cy="1731960"/>
            <a:chOff x="3348000" y="3124080"/>
            <a:chExt cx="2447640" cy="1731960"/>
          </a:xfrm>
        </p:grpSpPr>
        <p:sp>
          <p:nvSpPr>
            <p:cNvPr id="287" name="Rectangle 70"/>
            <p:cNvSpPr/>
            <p:nvPr/>
          </p:nvSpPr>
          <p:spPr>
            <a:xfrm>
              <a:off x="3348000" y="3484440"/>
              <a:ext cx="237456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348000" y="3124080"/>
              <a:ext cx="2447640" cy="1731960"/>
              <a:chOff x="3348000" y="3124080"/>
              <a:chExt cx="2447640" cy="1731960"/>
            </a:xfrm>
          </p:grpSpPr>
          <p:sp>
            <p:nvSpPr>
              <p:cNvPr id="289" name="35 CuadroTexto"/>
              <p:cNvSpPr/>
              <p:nvPr/>
            </p:nvSpPr>
            <p:spPr>
              <a:xfrm>
                <a:off x="3348000" y="3124080"/>
                <a:ext cx="2376360" cy="337320"/>
              </a:xfrm>
              <a:prstGeom prst="rect">
                <a:avLst/>
              </a:prstGeom>
              <a:gradFill rotWithShape="0">
                <a:gsLst>
                  <a:gs pos="0">
                    <a:srgbClr val="f5ffe6"/>
                  </a:gs>
                  <a:gs pos="100000">
                    <a:srgbClr val="dafda7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ocas metamórfic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72"/>
              <p:cNvSpPr/>
              <p:nvPr/>
            </p:nvSpPr>
            <p:spPr>
              <a:xfrm>
                <a:off x="3348000" y="3484440"/>
                <a:ext cx="2447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Las rocas metamórficas se for-man mediante un proceso de transformación </a:t>
                </a: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(metamorfismo)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 rocas ya existentes, en el que estas son sometidas a presiones y temperaturas altas en el inte-rior de la corteza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1835280" y="2003400"/>
            <a:ext cx="5616360" cy="1060560"/>
            <a:chOff x="1835280" y="2003400"/>
            <a:chExt cx="5616360" cy="1060560"/>
          </a:xfrm>
        </p:grpSpPr>
        <p:sp>
          <p:nvSpPr>
            <p:cNvPr id="292" name="30 Conector recto"/>
            <p:cNvSpPr/>
            <p:nvPr/>
          </p:nvSpPr>
          <p:spPr>
            <a:xfrm>
              <a:off x="4643280" y="2637000"/>
              <a:ext cx="0" cy="215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835280" y="2003400"/>
              <a:ext cx="5616360" cy="1060560"/>
              <a:chOff x="1835280" y="2003400"/>
              <a:chExt cx="5616360" cy="1060560"/>
            </a:xfrm>
          </p:grpSpPr>
          <p:sp>
            <p:nvSpPr>
              <p:cNvPr id="294" name="19 Conector recto"/>
              <p:cNvSpPr/>
              <p:nvPr/>
            </p:nvSpPr>
            <p:spPr>
              <a:xfrm>
                <a:off x="4643280" y="2003400"/>
                <a:ext cx="0" cy="3747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34 Conector recto"/>
              <p:cNvSpPr/>
              <p:nvPr/>
            </p:nvSpPr>
            <p:spPr>
              <a:xfrm>
                <a:off x="1835280" y="28526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57 Conector recto"/>
              <p:cNvSpPr/>
              <p:nvPr/>
            </p:nvSpPr>
            <p:spPr>
              <a:xfrm>
                <a:off x="745164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30 Conector recto"/>
              <p:cNvSpPr/>
              <p:nvPr/>
            </p:nvSpPr>
            <p:spPr>
              <a:xfrm>
                <a:off x="4643280" y="2867040"/>
                <a:ext cx="0" cy="1969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65"/>
              <p:cNvSpPr/>
              <p:nvPr/>
            </p:nvSpPr>
            <p:spPr>
              <a:xfrm flipH="1">
                <a:off x="1835280" y="2867040"/>
                <a:ext cx="2808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67"/>
              <p:cNvSpPr/>
              <p:nvPr/>
            </p:nvSpPr>
            <p:spPr>
              <a:xfrm flipH="1">
                <a:off x="4642920" y="2867040"/>
                <a:ext cx="280836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8 CuadroTexto"/>
              <p:cNvSpPr/>
              <p:nvPr/>
            </p:nvSpPr>
            <p:spPr>
              <a:xfrm>
                <a:off x="3962520" y="23637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 clasifican 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6227640" y="3068640"/>
            <a:ext cx="2448000" cy="2009880"/>
            <a:chOff x="6227640" y="3068640"/>
            <a:chExt cx="2448000" cy="2009880"/>
          </a:xfrm>
        </p:grpSpPr>
        <p:sp>
          <p:nvSpPr>
            <p:cNvPr id="302" name="55 CuadroTexto"/>
            <p:cNvSpPr/>
            <p:nvPr/>
          </p:nvSpPr>
          <p:spPr>
            <a:xfrm>
              <a:off x="6227640" y="30686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cas sediment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1"/>
            <p:cNvSpPr/>
            <p:nvPr/>
          </p:nvSpPr>
          <p:spPr>
            <a:xfrm>
              <a:off x="6227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9"/>
            <p:cNvSpPr/>
            <p:nvPr/>
          </p:nvSpPr>
          <p:spPr>
            <a:xfrm>
              <a:off x="6227640" y="3429000"/>
              <a:ext cx="244800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sedimentari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e forman por la acción de los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o-cesos geológicos exógenos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los que intervienen la energía solar y la gravedad. Por esa razón, también se llama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ocas exóge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5"/>
          <p:cNvSpPr/>
          <p:nvPr/>
        </p:nvSpPr>
        <p:spPr>
          <a:xfrm>
            <a:off x="1116000" y="189000"/>
            <a:ext cx="770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ipos de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Logo anaya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ía y Geología 3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33520" y="3083040"/>
            <a:ext cx="2447640" cy="1712880"/>
            <a:chOff x="533520" y="3083040"/>
            <a:chExt cx="2447640" cy="1712880"/>
          </a:xfrm>
        </p:grpSpPr>
        <p:sp>
          <p:nvSpPr>
            <p:cNvPr id="319" name="35 CuadroTexto"/>
            <p:cNvSpPr/>
            <p:nvPr/>
          </p:nvSpPr>
          <p:spPr>
            <a:xfrm>
              <a:off x="539640" y="3083040"/>
              <a:ext cx="2376720" cy="33732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cas magmát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9"/>
            <p:cNvSpPr/>
            <p:nvPr/>
          </p:nvSpPr>
          <p:spPr>
            <a:xfrm>
              <a:off x="533520" y="3429000"/>
              <a:ext cx="24476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Las rocas magmáticas se for-man a partir de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agma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que ascienden hacia la superficie a través de la corteza y se enfrí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23"/>
            <p:cNvSpPr/>
            <p:nvPr/>
          </p:nvSpPr>
          <p:spPr>
            <a:xfrm>
              <a:off x="539640" y="3429000"/>
              <a:ext cx="2374920" cy="13669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57200" y="57150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20e"/>
                </a:solidFill>
                <a:latin typeface="Arial"/>
              </a:rPr>
              <a:t>Pulsa en cada tipo de roca para saber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5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20:19:15Z</dcterms:created>
  <dc:creator>Invitado</dc:creator>
  <dc:description/>
  <dc:language>en-US</dc:language>
  <cp:lastModifiedBy>aalcon aalcon</cp:lastModifiedBy>
  <dcterms:modified xsi:type="dcterms:W3CDTF">2010-09-22T08:25:03Z</dcterms:modified>
  <cp:revision>14</cp:revision>
  <dc:subject/>
  <dc:title>Diapositiva 1</dc:title>
</cp:coreProperties>
</file>